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638-3750-4907-90EE-1CBA93B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C69-55F7-4F8A-B1F0-DF4C44F2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9AB-F3DD-4B68-B7E9-84A986C3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505-65BF-4721-9496-8190CD8F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9B3-CA88-486E-A3EF-E98D72D9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B02-3A2D-49BB-B9DE-AE0BB6AD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095-1539-40A2-B203-3181BBAE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5D-5C8F-4F7B-8BCB-2BE0BCCD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C66-F3B4-49D7-A19B-F7C41CF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D80-F28B-4EAC-8F32-7DBCE83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4BA-5581-413D-9319-262E79F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3D7-FA2B-4E6C-A630-6E929D0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5BB1-8F33-48B8-9B23-1A676882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76720" cy="10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ملْ روحك اشتياقي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هبه لي واستر خطا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 يرتوي منه غليلي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فيك لا غيرُ رجــاي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3200400" cy="88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ربي    نورُ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أنت حصنُ أتقي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املأن يا رب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وحَ قدسٍ من عُل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251460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املأ روحَ حبٍ روحَ برٍ و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َ إيمانٍ وصبرٍ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حَ لطفٍ ووئ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380880"/>
            <a:ext cx="6508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514600" cy="10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حياتي     ملءُ روحكَ الودي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امْنَحَنّي  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يسوع   يا سميع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8:53:20Z</dcterms:created>
  <dc:creator>SUZANNE.MD</dc:creator>
  <dc:description/>
  <dc:language>en-US</dc:language>
  <cp:lastModifiedBy>HANI SAFI</cp:lastModifiedBy>
  <dcterms:modified xsi:type="dcterms:W3CDTF">2003-05-22T04:56:50Z</dcterms:modified>
  <cp:revision>3</cp:revision>
  <dc:subject/>
  <dc:title>PowerPoint Presentation</dc:title>
</cp:coreProperties>
</file>